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11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1CC47-EF29-4602-A136-05556AFC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C854B-DDFF-4F71-8751-8608331D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329D-7FCF-4A57-A500-8426A565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67A69-A59B-44A9-8250-82599853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CD11-9826-42C6-9544-8E90CCC5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7591-BBB6-4AD0-80B9-4B59EEA9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ECC4-A1AA-4DEC-A64A-B2F086CB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0FB5-43CC-41E4-AC02-55BBB2DF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4980-B1BE-4FE9-AD90-9D56B4EE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5BC6-FEF3-4FE8-A9DD-E96AE8DC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DC36-1C2A-4139-965D-CF366614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7B53-AAF9-43C8-AEC1-81920682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CD99-5FA6-4854-9FF6-77FF4A0D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25FF-6F4F-40D4-AAD2-DA309561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00F7-A549-4E29-85B0-16B5A74A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E938-3F04-48E3-9A98-24A44413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8DF1-0CBB-4EE3-8A10-30161A04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95F86-8FD1-428B-BE53-BB506FE8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000D-85B1-4DD3-AE81-2D293646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EF50-6A3F-4B48-A2F5-2ADEF687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EB248-C4A9-4E73-85CC-D8601F3D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D88F-50A7-4855-BDB7-746C3F8A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A3685-ADB3-4F2A-A022-5B923FFF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457A6-0C18-4E7A-9950-1EDB09D7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9E91-8AF3-4F98-87E6-4F76107487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4BA7-00ED-4A04-93F3-0898E49166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eterite v. Imperfec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335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= reoccurring actions / repeating actions/ actions interrup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Él asistía a la escuela todos los día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Yo comía al mediodía cada almuerzo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Yo lavaba los platos cuando tú  me llamaste por teléfono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MCj01358170000[1]"/>
          <p:cNvPicPr/>
          <p:nvPr/>
        </p:nvPicPr>
        <p:blipFill>
          <a:blip r:embed="rId1"/>
          <a:stretch/>
        </p:blipFill>
        <p:spPr>
          <a:xfrm>
            <a:off x="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MCj01358170000[1]"/>
          <p:cNvPicPr/>
          <p:nvPr/>
        </p:nvPicPr>
        <p:blipFill>
          <a:blip r:embed="rId2"/>
          <a:stretch/>
        </p:blipFill>
        <p:spPr>
          <a:xfrm>
            <a:off x="91440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MCj01358170000[1]"/>
          <p:cNvPicPr/>
          <p:nvPr/>
        </p:nvPicPr>
        <p:blipFill>
          <a:blip r:embed="rId3"/>
          <a:stretch/>
        </p:blipFill>
        <p:spPr>
          <a:xfrm>
            <a:off x="175248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Cj01358170000[1]"/>
          <p:cNvPicPr/>
          <p:nvPr/>
        </p:nvPicPr>
        <p:blipFill>
          <a:blip r:embed="rId4"/>
          <a:stretch/>
        </p:blipFill>
        <p:spPr>
          <a:xfrm>
            <a:off x="259092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MCj01358170000[1]"/>
          <p:cNvPicPr/>
          <p:nvPr/>
        </p:nvPicPr>
        <p:blipFill>
          <a:blip r:embed="rId5"/>
          <a:stretch/>
        </p:blipFill>
        <p:spPr>
          <a:xfrm>
            <a:off x="342900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MCj01358170000[1]"/>
          <p:cNvPicPr/>
          <p:nvPr/>
        </p:nvPicPr>
        <p:blipFill>
          <a:blip r:embed="rId6"/>
          <a:stretch/>
        </p:blipFill>
        <p:spPr>
          <a:xfrm>
            <a:off x="426708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MCj01358170000[1]"/>
          <p:cNvPicPr/>
          <p:nvPr/>
        </p:nvPicPr>
        <p:blipFill>
          <a:blip r:embed="rId7"/>
          <a:stretch/>
        </p:blipFill>
        <p:spPr>
          <a:xfrm>
            <a:off x="510552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Cj01358170000[1]"/>
          <p:cNvPicPr/>
          <p:nvPr/>
        </p:nvPicPr>
        <p:blipFill>
          <a:blip r:embed="rId8"/>
          <a:stretch/>
        </p:blipFill>
        <p:spPr>
          <a:xfrm>
            <a:off x="5943600" y="5265720"/>
            <a:ext cx="1371600" cy="1592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MCj01358170000[1]"/>
          <p:cNvPicPr/>
          <p:nvPr/>
        </p:nvPicPr>
        <p:blipFill>
          <a:blip r:embed="rId9"/>
          <a:stretch/>
        </p:blipFill>
        <p:spPr>
          <a:xfrm>
            <a:off x="6934320" y="5265720"/>
            <a:ext cx="1371600" cy="1592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MCj01358170000[1]"/>
          <p:cNvPicPr/>
          <p:nvPr/>
        </p:nvPicPr>
        <p:blipFill>
          <a:blip r:embed="rId10"/>
          <a:stretch/>
        </p:blipFill>
        <p:spPr>
          <a:xfrm>
            <a:off x="7924680" y="5265720"/>
            <a:ext cx="14479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e are words usually associated with the imperfect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066680" y="2513160"/>
            <a:ext cx="3657600" cy="36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os los dí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s las no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os los meses.. añ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emp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m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876920" y="2470320"/>
            <a:ext cx="358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n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 vez en cuan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entr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 niño(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 jov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terite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57200" y="1600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re are words usually associated with the preterite.  However, make sure PWATER is not “in play.”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066680" y="2514600"/>
            <a:ext cx="3657600" cy="36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y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teay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 mes pas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 día pas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a ve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 rep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och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terite or imperfec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d to describe peop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tell tim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mplete or interrupted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d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eated or habitual act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s –i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cribing an emo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77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77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7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77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77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teri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verb tense in which actions are done and over – never to be repeat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4" descr="MMj03365540000[1]"/>
          <p:cNvPicPr/>
          <p:nvPr/>
        </p:nvPicPr>
        <p:blipFill>
          <a:blip r:embed="rId1"/>
          <a:stretch/>
        </p:blipFill>
        <p:spPr>
          <a:xfrm>
            <a:off x="1752480" y="3959280"/>
            <a:ext cx="714600" cy="799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051360" y="411480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nce the action is done, it is not to be repeated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terite examp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 estudié por el examen en histor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sotros vimos a 311 el año pas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los dieron las presentaciónes ay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ú hablaste con el presidente anteay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la se cepilló el pelo anoch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verb tense to describe events which happen in the past that deal with PW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 = physical descriptions or attrib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la era alta y él era baj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 era bonita y jove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ú eras gordi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MCj03977660000[1]"/>
          <p:cNvPicPr/>
          <p:nvPr/>
        </p:nvPicPr>
        <p:blipFill>
          <a:blip r:embed="rId1"/>
          <a:stretch/>
        </p:blipFill>
        <p:spPr>
          <a:xfrm>
            <a:off x="7238880" y="228600"/>
            <a:ext cx="1675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57200" y="1905120"/>
            <a:ext cx="784872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= wea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acía sol ay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lovía mucho en abri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 nevaba en noviembre much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MCj01990210000[1]"/>
          <p:cNvPicPr/>
          <p:nvPr/>
        </p:nvPicPr>
        <p:blipFill>
          <a:blip r:embed="rId1"/>
          <a:stretch/>
        </p:blipFill>
        <p:spPr>
          <a:xfrm>
            <a:off x="457200" y="0"/>
            <a:ext cx="21765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600200"/>
            <a:ext cx="7848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= age (chronologic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los tenían siete años el año pasa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 tenía diez años cuando yo compré mi propia biciclet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sotros teníamos un año cuando Nosotros tomamos lecciónes de natació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MMj02838990000[1]"/>
          <p:cNvPicPr/>
          <p:nvPr/>
        </p:nvPicPr>
        <p:blipFill>
          <a:blip r:embed="rId1"/>
          <a:stretch/>
        </p:blipFill>
        <p:spPr>
          <a:xfrm>
            <a:off x="7315200" y="4876920"/>
            <a:ext cx="1327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457200" y="1600200"/>
            <a:ext cx="7848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 = time (numbe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ra a la una anoch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ran las siete de la mañ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ran las dos menos tres de la tar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MMj03368530000[1]"/>
          <p:cNvPicPr/>
          <p:nvPr/>
        </p:nvPicPr>
        <p:blipFill>
          <a:blip r:embed="rId1"/>
          <a:stretch/>
        </p:blipFill>
        <p:spPr>
          <a:xfrm>
            <a:off x="6781680" y="533520"/>
            <a:ext cx="7160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57200" y="1600200"/>
            <a:ext cx="7848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 = emo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 estaba conten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los estaban enojado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ú estabas preocupado anoch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MCj02325990000[1]"/>
          <p:cNvPicPr/>
          <p:nvPr/>
        </p:nvPicPr>
        <p:blipFill>
          <a:blip r:embed="rId1"/>
          <a:stretch/>
        </p:blipFill>
        <p:spPr>
          <a:xfrm>
            <a:off x="7238880" y="228600"/>
            <a:ext cx="1320840" cy="181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Cj02320490000[1]"/>
          <p:cNvPicPr/>
          <p:nvPr/>
        </p:nvPicPr>
        <p:blipFill>
          <a:blip r:embed="rId2"/>
          <a:stretch/>
        </p:blipFill>
        <p:spPr>
          <a:xfrm>
            <a:off x="7238880" y="4724280"/>
            <a:ext cx="1706760" cy="1868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MCj02934900000[1]"/>
          <p:cNvPicPr/>
          <p:nvPr/>
        </p:nvPicPr>
        <p:blipFill>
          <a:blip r:embed="rId3"/>
          <a:stretch/>
        </p:blipFill>
        <p:spPr>
          <a:xfrm>
            <a:off x="533520" y="304920"/>
            <a:ext cx="1831680" cy="112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MCj02991390000[1]"/>
          <p:cNvPicPr/>
          <p:nvPr/>
        </p:nvPicPr>
        <p:blipFill>
          <a:blip r:embed="rId4"/>
          <a:stretch/>
        </p:blipFill>
        <p:spPr>
          <a:xfrm>
            <a:off x="0" y="5369040"/>
            <a:ext cx="1825560" cy="1488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MCj02392050000[1]"/>
          <p:cNvPicPr/>
          <p:nvPr/>
        </p:nvPicPr>
        <p:blipFill>
          <a:blip r:embed="rId5"/>
          <a:stretch/>
        </p:blipFill>
        <p:spPr>
          <a:xfrm>
            <a:off x="7238880" y="2362320"/>
            <a:ext cx="1511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6:42:11Z</dcterms:created>
  <dc:creator>lhagemeier</dc:creator>
  <dc:description/>
  <dc:language>en-US</dc:language>
  <cp:lastModifiedBy>Box Elder School District</cp:lastModifiedBy>
  <dcterms:modified xsi:type="dcterms:W3CDTF">2012-03-12T15:06:49Z</dcterms:modified>
  <cp:revision>7</cp:revision>
  <dc:subject/>
  <dc:title>Preterite v. Imperfect</dc:title>
</cp:coreProperties>
</file>